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754C-409D-4424-B58C-18892E120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 Lorie, Abt Associ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9C7C-C8B5-4B72-BDFC-BD93B639F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Imaopakgfsdiaevxjfzç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ORSAN-HI-transparent_Black seal only.gif"/>
          <p:cNvPicPr/>
          <p:nvPr/>
        </p:nvPicPr>
        <p:blipFill>
          <a:blip r:embed="rId3"/>
          <a:stretch/>
        </p:blipFill>
        <p:spPr>
          <a:xfrm>
            <a:off x="8381880" y="-6480"/>
            <a:ext cx="768600" cy="76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3" descr="Imaopakgfsdiaevxjfzç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ORSAN-HI-transparent_Black seal only.gif"/>
          <p:cNvPicPr/>
          <p:nvPr/>
        </p:nvPicPr>
        <p:blipFill>
          <a:blip r:embed="rId3"/>
          <a:stretch/>
        </p:blipFill>
        <p:spPr>
          <a:xfrm>
            <a:off x="8381880" y="-6480"/>
            <a:ext cx="768600" cy="76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33577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788b"/>
                </a:solidFill>
                <a:latin typeface="Verdana"/>
              </a:rPr>
              <a:t>Water Resources Update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404040"/>
                </a:solidFill>
                <a:latin typeface="Verdana"/>
              </a:rPr>
              <a:t>Informational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79560" y="6140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Technical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October 9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58280"/>
            <a:ext cx="82296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788b"/>
                </a:solidFill>
                <a:latin typeface="Verdana"/>
              </a:rPr>
              <a:t>Water Resources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788b"/>
                </a:solidFill>
                <a:latin typeface="Verdana"/>
              </a:rPr>
              <a:t>WRC met August 13</a:t>
            </a:r>
            <a:r>
              <a:rPr b="0" lang="en-US" sz="2600" spc="-1" strike="noStrike" baseline="30000">
                <a:solidFill>
                  <a:srgbClr val="52788b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52788b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788b"/>
                </a:solidFill>
                <a:latin typeface="Verdana"/>
              </a:rPr>
              <a:t>Marked first time water resource agency representatives from all 6 mainstem states in atten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788b"/>
                </a:solidFill>
                <a:latin typeface="Verdana"/>
              </a:rPr>
              <a:t>Agenda inclu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Water Resource Initiative up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USACE Civil Works Future Identity Init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USGS WaterSMART Init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Upper Mississippi River Basin 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313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Water Resources Initi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8b"/>
                </a:solidFill>
                <a:latin typeface="Verdana"/>
              </a:rPr>
              <a:t>Completed draft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Water Use Characte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Water Resource Laws &amp; Re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8b"/>
                </a:solidFill>
                <a:latin typeface="Verdana"/>
              </a:rPr>
              <a:t>Reports under develop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Shale gas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52788b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2788b"/>
                </a:solidFill>
                <a:latin typeface="Verdana"/>
              </a:rPr>
              <a:t>Compiling water use data from the sta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Inter-basin transf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8b"/>
                </a:solidFill>
                <a:latin typeface="Verdana"/>
              </a:rPr>
              <a:t>Reports not yet initi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Potential impacts of climate change on water resource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Future role of Commission in water resources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788b"/>
                </a:solidFill>
                <a:latin typeface="Verdana"/>
              </a:rPr>
              <a:t>USACE Civil Works Future Identity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Build on existing Ohio River Basin activities and organizations to continue toward IW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Explore possibility of implementing Shared Vision Planning to address issues in Ohio River Bas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Get Ohio River Basin stakeholder feedback on potential use of Shared Vision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Regional initiatives to engage stakeholders on relevant issues and move out on new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Goa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52788b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Use collaborative planning to solve Ohio River Basin problems, potentially develop a comprehensiv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52788b"/>
                </a:solidFill>
                <a:latin typeface="Verdana"/>
              </a:rPr>
              <a:t>And in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52788b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Establish a robust institutional framework for collaboratively resolving water resources issue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USGS WaterSM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Develop a nationwide system to deliver information about key water availabi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Precip, ET, storage, surface/groundwater, E-flows, uses and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Progressing Towards a National Assessment of Water Availability and Use – Circular 13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Pilot studies – Delaware, Colorado, and A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Opportunity to get Ohio River Basin included in next round of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940360" y="5589720"/>
            <a:ext cx="3048120" cy="109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788b"/>
                </a:solidFill>
                <a:latin typeface="Verdana"/>
              </a:rPr>
              <a:t>Upper Mississippi River Basin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7640" y="1599840"/>
            <a:ext cx="6985080" cy="5257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  <a:ea typeface="Verdana"/>
              </a:rPr>
              <a:t>Facilitate dialogue and cooperative action regarding water resource issues in the Upper Mississippi River Bas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  <a:ea typeface="Verdana"/>
              </a:rPr>
              <a:t>Five states: IL, IA, MN, MO, 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  <a:ea typeface="Verdana"/>
              </a:rPr>
              <a:t>Key area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  <a:ea typeface="Verdana"/>
              </a:rPr>
              <a:t>Flood risk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  <a:ea typeface="Verdana"/>
              </a:rPr>
              <a:t>Advocate States’ positions on W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  <a:ea typeface="Verdana"/>
              </a:rPr>
              <a:t>Hydro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  <a:ea typeface="Verdana"/>
              </a:rPr>
              <a:t>Water supply (interbasin diversion polic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  <a:ea typeface="Verdana"/>
              </a:rPr>
              <a:t>Wate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  <a:ea typeface="Verdana"/>
              </a:rPr>
              <a:t>Could serve as a non-regulatory model for defining ORSANCO’s role in water resources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7380360" y="5300640"/>
            <a:ext cx="1295280" cy="132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basinmap0414-2"/>
          <p:cNvPicPr/>
          <p:nvPr/>
        </p:nvPicPr>
        <p:blipFill>
          <a:blip r:embed="rId2"/>
          <a:stretch/>
        </p:blipFill>
        <p:spPr>
          <a:xfrm>
            <a:off x="6875640" y="1989000"/>
            <a:ext cx="2268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980640"/>
            <a:ext cx="8229600" cy="5722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788b"/>
                </a:solidFill>
                <a:latin typeface="Verdana"/>
              </a:rPr>
              <a:t>Water Resources Init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Continue to work o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788b"/>
                </a:solidFill>
                <a:latin typeface="Verdana"/>
              </a:rPr>
              <a:t>Follow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Discuss feedback from USACE stakeholder meetings re: Civil Works Future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Investigate possible inclusion in USGS water census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788b"/>
                </a:solidFill>
                <a:latin typeface="Verdana"/>
              </a:rPr>
              <a:t>Articulate benefits to States of Commission role in water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788b"/>
                </a:solidFill>
                <a:latin typeface="Verdana"/>
              </a:rPr>
              <a:t>Water Resources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Continue to work with states to buil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2858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8b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jklear</cp:lastModifiedBy>
  <dcterms:modified xsi:type="dcterms:W3CDTF">2013-10-15T15:24:21Z</dcterms:modified>
  <cp:revision>429</cp:revision>
  <dc:subject/>
  <dc:title>Blue Curves on Blankboard</dc:title>
</cp:coreProperties>
</file>